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11.gif" ContentType="image/gif"/>
  <Override PartName="/ppt/media/image14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8CE-4F27-4A1F-BBA9-61E08F0E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602-931C-41AD-AF51-EDED985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459-DAC6-4C44-A4B4-02D5E6B5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FAE-7A95-4E2F-A68D-3F2A377A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7FF5-83B4-4037-AC3C-A16F5B3A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7874-818D-4FC0-810B-D6101AAC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79B-BCE2-44CE-A69C-AB7180A1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EE1D-FD9C-4B89-AB1B-1BFCFBBE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BC1-FDC0-4EAF-8FF8-80B0025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4509-BA3E-401B-90A4-B45B1F2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733-DA07-4EC1-8959-966ADE7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B47-7F98-4CFF-99A8-06D7319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2696-47A7-474E-8297-8AE52DB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959B-07FE-4B16-8E57-8A98BF4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820E-24E5-475F-8C80-7061FCF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F03-802A-4985-8CDA-B2953C2E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3C94-DAFE-4463-8F9C-833884E2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1FA6-4349-4C25-ACD6-244872B6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9F4A-F169-4D9F-A4A1-85E81977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1BF6-F343-4276-9B97-056312C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9185-C324-4CCC-8ACE-72F3051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B7CB-E200-4D42-9088-C018027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758-034A-4618-896F-67DBDFD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9D44-1AF1-420F-B771-5C7C2C4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00CF-A8D3-40C7-A049-CAE2E97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51B7-0AA0-47AF-95D3-BF62C885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77BB-A9ED-4989-9983-D493BD3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EBCC-96F8-48CF-9EE2-3A39CD6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ECE3-1802-4971-AB5A-C1EA443E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91A5-64EF-473F-BB63-9BB19A0D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6C14-B2F0-4F01-ABDE-0C13286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1456-A065-47EF-B2F2-7738F2C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D50D-0F9B-4F04-8E76-D754444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071-B388-4674-831D-E13594B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7626-8A9C-4D14-8BF2-41073D62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BBE5-7B99-4C0C-9831-543B95DD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F2A5-5F95-4211-8A9B-6D3BEE9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9538-B896-4B08-A5C0-C983965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B05C-05BD-4CDF-92F5-D59C228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D75F-AD45-4B32-979B-D5BBA70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7000-6AC7-4D0A-9F34-4BF2EE84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A45D-BE08-4B00-8A3D-090C5747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6127-D68E-439E-9A5E-40045402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83EB-9101-41A8-BCFC-8FCBC05A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DA1-1E46-4E84-83B3-907B9D9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F5DD-5113-4D65-972B-0C84472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50E8-78B5-4BCB-9312-F3A2AA35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29FD-2CA4-48B5-AD4E-0E03AF9B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5660-0615-4605-8FCF-D489D0F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0932-C761-447D-9027-49A659F4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CDAF-4579-42EC-B13B-D4D6192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FE0C-6D15-4C2E-B308-1DD5666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5729-727D-4CE7-ACA0-E24BAC6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32D20-EC2E-45F7-8483-D47FCC46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88BA-C931-4324-A7D9-4F055513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C98-6767-43CD-BF4A-ECCB8A5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7A7A-F0BB-4C6F-9E1D-B60FC139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95D7-85AC-4D58-B40D-205FDB79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0307-D6C4-4060-9D6E-D0F385F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7BE8-3A22-46F3-97AD-B954B87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13C07-8DB5-4860-943C-712883D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D4FE-A175-4E4A-AFD4-17D488E3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E3DC-6EE5-4C92-B7F7-9CA37C8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7E30-FCDE-47AB-AFF3-AEDFD37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1AAA-E1D5-45E0-A6F1-47A431D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39E4-8046-4D3F-8FE8-8A5C7CC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A6C-EBC1-4778-98F4-C7AAA78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FADB-95FD-4C15-8110-8CB37EE1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E3A6C-1340-4554-A16A-B4938698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79241-C583-4D72-A4AC-80BDDF63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F8641-C357-4F9B-9926-C24D4E37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B56D0-DEC5-4C90-870C-61ACD6CB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C6E84-E65A-4CAF-90DB-FF78809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61FD-FF46-460B-9012-67F4AAB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F782-57F2-4149-9C1A-F5B35D2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E8B1-06F3-4C60-A36A-166A4BB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B5AF-315D-4E22-A2C8-1B2A52F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F2F-6F3A-4C8E-8E46-D4162BC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2CDA-F3C3-481A-A53A-72E16B9C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87F0-871E-4DA5-AA95-E1E8C3F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7C88-F27C-4F27-BCA4-A11FB20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8CFF2-B23F-4FF3-B538-8F713F8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9FFEE-9F5B-4F0A-BBEC-0FD2B09D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42CBB-F547-4720-B14B-3AC0724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8F055-9C0F-4895-9FBF-859B3037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B6DB6-FE75-4B7F-89CB-7E13EF8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2FB4-8742-4BAF-9A60-FC55CC5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11E1-6A2F-47FE-8741-E4797CB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2A6-4498-40F1-BCEC-A1D31C5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5B95-9373-45A6-B078-9CF8E05F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B5C9-C5A0-47B2-BE7F-C253A1C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283DA-089B-40E9-A6FD-9F32A09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F99A-9D67-4F21-8B19-2242327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0157-F030-4562-A128-CF2EA69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39BE-1780-438F-9A2C-F0185218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C5B5-75E3-4945-956A-A6D1168E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5306-37EC-4DFD-A956-487DB12B10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6D2-C671-4F8A-90E8-56E39FC927B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FBED-A3E7-4DE1-9216-FC56E11824C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6960-72C9-4C34-9CED-2B210A7663D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491E-6A9E-4703-9050-E13F4D1E1C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D0F-E6E3-43D9-A5C6-884F7313679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341-18D8-48A8-BA3C-436CA5CF05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A3B-92B8-4E75-9EBE-FFCAF91219E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268200" y="907920"/>
            <a:ext cx="8425080" cy="4969080"/>
          </a:xfrm>
          <a:prstGeom prst="rect">
            <a:avLst/>
          </a:prstGeom>
          <a:ln w="0">
            <a:noFill/>
          </a:ln>
        </p:spPr>
      </p:pic>
      <p:sp>
        <p:nvSpPr>
          <p:cNvPr id="371" name="DiagonalStripe"/>
          <p:cNvSpPr/>
          <p:nvPr/>
        </p:nvSpPr>
        <p:spPr>
          <a:xfrm rot="6700200">
            <a:off x="3900960" y="1207080"/>
            <a:ext cx="4479840" cy="422136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ppreciate math in the context of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 able to connect the lesson to real life situation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nderstand and apply basic principles in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Program Files\Microsoft Office\MEDIA\OFFICE12\Lines\BD14677_.gif"/>
          <p:cNvPicPr/>
          <p:nvPr/>
        </p:nvPicPr>
        <p:blipFill>
          <a:blip r:embed="rId2"/>
          <a:stretch/>
        </p:blipFill>
        <p:spPr>
          <a:xfrm rot="20006400">
            <a:off x="2895480" y="4800240"/>
            <a:ext cx="5715000" cy="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ason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Deductive structu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ints, lines and plan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ints on a li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vex sets and separati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roof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ferring new stateme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ng theore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filecab2"/>
          <p:cNvSpPr/>
          <p:nvPr/>
        </p:nvSpPr>
        <p:spPr>
          <a:xfrm>
            <a:off x="5105520" y="3505320"/>
            <a:ext cx="3195360" cy="2890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C:\Program Files\Microsoft Office\MEDIA\CAGCAT10\j0234687.gif"/>
          <p:cNvPicPr/>
          <p:nvPr/>
        </p:nvPicPr>
        <p:blipFill>
          <a:blip r:embed="rId2"/>
          <a:stretch/>
        </p:blipFill>
        <p:spPr>
          <a:xfrm>
            <a:off x="5562720" y="4114800"/>
            <a:ext cx="2198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C:\Program Files\Microsoft Office\MEDIA\CAGCAT10\j0240695.wmf"/>
          <p:cNvPicPr/>
          <p:nvPr/>
        </p:nvPicPr>
        <p:blipFill>
          <a:blip r:embed="rId1"/>
          <a:stretch/>
        </p:blipFill>
        <p:spPr>
          <a:xfrm>
            <a:off x="3505320" y="0"/>
            <a:ext cx="2590560" cy="2075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ng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ngles and separa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ogical foundations for angular measu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angle and triangle congruenc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 of triangl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ditions for congruenc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equaliti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 brief Review of Algebraic inequaliti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equalities among measureme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elations between sides and angles of a triang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direct proofs and parallelis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radiction and exhaustive proof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limina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rallelis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ansversal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roportionality and triangle similar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atios and proporti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imilarity of triangl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ng two triangles simila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pplications of a right triang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ythagorean theore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Program Files\Microsoft Office\MEDIA\CAGCAT10\j0291984.wmf"/>
          <p:cNvPicPr/>
          <p:nvPr/>
        </p:nvPicPr>
        <p:blipFill>
          <a:blip r:embed="rId2"/>
          <a:stretch/>
        </p:blipFill>
        <p:spPr>
          <a:xfrm>
            <a:off x="6781680" y="0"/>
            <a:ext cx="194328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Quadrilateral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Kinds of quadrilateral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arallelogra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pecial parallelogram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Ways of proving that a quadrilateral is a parallelogra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57200" y="4106880"/>
            <a:ext cx="1676520" cy="2751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ircl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hords and Diamet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ngles and arcs inscribed in a circl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angents and sec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pher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erimeters, areas and volum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3D and 2D shap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troduction to analytic geometr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tesian pla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Distance between 2 poi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lope &amp; equation of a lin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f we give a value for effort we substitute A=1 B=2 C=3 D=4 E=5 F=6 G=7 H=8 I=9………. Then ATTITUDE to things totals to a hundred percent effor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-EJ Gelmo-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lane Geometry for Philippine High schools(Roberto Natividad Padua,Ph.D., Estela Galiciano-Adanza,Ph.d., Corazon Beredo Alano, M.A.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6:43:28Z</dcterms:created>
  <dc:creator>junPC</dc:creator>
  <dc:description/>
  <dc:language>en-US</dc:language>
  <cp:lastModifiedBy>junPC</cp:lastModifiedBy>
  <dcterms:modified xsi:type="dcterms:W3CDTF">2012-10-02T01:21:53Z</dcterms:modified>
  <cp:revision>11</cp:revision>
  <dc:subject/>
  <dc:title>Euls university High school dept. Mr. Gelmo Geometry</dc:title>
</cp:coreProperties>
</file>